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3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media/image14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08F6-A4B2-4B59-B96E-89577FA4C9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7FED-2D13-40B4-98C1-AD71FCDB78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A0E9-A4D6-49C9-8C7A-20C2DA7245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0F1-D6D1-4ED4-8018-4B530581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7D4-0B0E-4604-BE62-87B0F577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D89-9D50-4E8E-ABA8-B8B549C0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C64-1592-4FC3-8A9A-A44A5AAA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6B7-476D-4246-8DEF-3921EE60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8C1-9492-45B8-A44B-F8E3B13B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CD1-6696-44D0-B74E-E9BFBA15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4BC-EAC7-41CB-A9A8-63F1CE73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27F-706B-459E-96F5-287752D1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96A-9BA9-424B-B79E-75EFABD9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76D-FA2B-48BC-AF9F-07579ADD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4A9-DDFD-4624-9A83-02EC87CA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26C9-A3B4-4EC5-AE47-A5D5DF114C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"/>
          <p:cNvGrpSpPr/>
          <p:nvPr/>
        </p:nvGrpSpPr>
        <p:grpSpPr>
          <a:xfrm>
            <a:off x="0" y="0"/>
            <a:ext cx="2062080" cy="544680"/>
            <a:chOff x="0" y="0"/>
            <a:chExt cx="2062080" cy="544680"/>
          </a:xfrm>
        </p:grpSpPr>
        <p:pic>
          <p:nvPicPr>
            <p:cNvPr id="49" name="图片 1" descr=""/>
            <p:cNvPicPr/>
            <p:nvPr/>
          </p:nvPicPr>
          <p:blipFill>
            <a:blip r:embed="rId1"/>
            <a:stretch/>
          </p:blipFill>
          <p:spPr>
            <a:xfrm>
              <a:off x="73080" y="792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文本框 2"/>
            <p:cNvSpPr/>
            <p:nvPr/>
          </p:nvSpPr>
          <p:spPr>
            <a:xfrm>
              <a:off x="0" y="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3"/>
          <p:cNvSpPr/>
          <p:nvPr/>
        </p:nvSpPr>
        <p:spPr>
          <a:xfrm>
            <a:off x="0" y="728640"/>
            <a:ext cx="8885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同学们，当你看到一个人蹲在地上爬行，还不停地嘎嘎叫的人的时候，你一定会把他看做一个疯子，其实，他不是疯子，而是一位科学工作者。今天我们就来学学他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动物笑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，看看他是怎样的一位科学工作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2"/>
          <p:cNvSpPr/>
          <p:nvPr/>
        </p:nvSpPr>
        <p:spPr>
          <a:xfrm>
            <a:off x="0" y="0"/>
            <a:ext cx="914400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采奕奕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精神饱满，容光焕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滑翔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不依靠动力，而利用空气的浮力和本身重力的相互作用在空中飘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俯冲：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机等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高速度向下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蹒跚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腿脚不灵便，走路缓慢、摇摆的样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3"/>
          <p:cNvGrpSpPr/>
          <p:nvPr/>
        </p:nvGrpSpPr>
        <p:grpSpPr>
          <a:xfrm>
            <a:off x="184320" y="1120680"/>
            <a:ext cx="2062080" cy="544680"/>
            <a:chOff x="184320" y="1120680"/>
            <a:chExt cx="2062080" cy="544680"/>
          </a:xfrm>
        </p:grpSpPr>
        <p:pic>
          <p:nvPicPr>
            <p:cNvPr id="107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112860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文本框 2"/>
            <p:cNvSpPr/>
            <p:nvPr/>
          </p:nvSpPr>
          <p:spPr>
            <a:xfrm>
              <a:off x="184320" y="11206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5"/>
          <p:cNvSpPr/>
          <p:nvPr/>
        </p:nvSpPr>
        <p:spPr>
          <a:xfrm>
            <a:off x="0" y="1916280"/>
            <a:ext cx="9144000" cy="29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文的中心句是什么？有什么作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给文章分段，归纳段意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3"/>
          <p:cNvGrpSpPr/>
          <p:nvPr/>
        </p:nvGrpSpPr>
        <p:grpSpPr>
          <a:xfrm>
            <a:off x="0" y="0"/>
            <a:ext cx="2062080" cy="544680"/>
            <a:chOff x="0" y="0"/>
            <a:chExt cx="2062080" cy="544680"/>
          </a:xfrm>
        </p:grpSpPr>
        <p:pic>
          <p:nvPicPr>
            <p:cNvPr id="111" name="图片 1" descr=""/>
            <p:cNvPicPr/>
            <p:nvPr/>
          </p:nvPicPr>
          <p:blipFill>
            <a:blip r:embed="rId1"/>
            <a:stretch/>
          </p:blipFill>
          <p:spPr>
            <a:xfrm>
              <a:off x="73080" y="792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"/>
            <p:cNvSpPr/>
            <p:nvPr/>
          </p:nvSpPr>
          <p:spPr>
            <a:xfrm>
              <a:off x="0" y="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课文解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1"/>
          <p:cNvSpPr/>
          <p:nvPr/>
        </p:nvSpPr>
        <p:spPr>
          <a:xfrm>
            <a:off x="1000800" y="6922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本文的中心句是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0" y="177336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研究高等动物的行为时，常常会发生一些趣事，不过逗笑的主角常常不是动物，而是观察者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0" y="39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总括全文，表明文中逗笑的主角不是动物，而是观察者自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0" y="404640"/>
            <a:ext cx="9144000" cy="40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第一部分（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总领全文，写“我”研究动物时出现的趣事，被人视为疯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第二部分（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～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19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具体记叙研究水鸭子与黄冠大鹦鹉的趣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"/>
          <p:cNvPicPr/>
          <p:nvPr/>
        </p:nvPicPr>
        <p:blipFill>
          <a:blip r:embed="rId1"/>
          <a:stretch/>
        </p:blipFill>
        <p:spPr>
          <a:xfrm>
            <a:off x="6915240" y="4586400"/>
            <a:ext cx="22287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0" y="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在不能嗔怪有些外行人批评：研究动物行为的科学家实验的方法怪诞不经。”作者为什么要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250920" y="213372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引用外行人并无恶意的批评，总体说明在一般情况下研究动物行为的科学家实验方法往往“怪诞不经”的事实。语言风趣幽默，欲扬先抑，引出下文的一系列故事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0" y="33336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层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：写研究水鸭子的经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层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：写黄冠大鹦鹉可可的趣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2" descr=""/>
          <p:cNvPicPr/>
          <p:nvPr/>
        </p:nvPicPr>
        <p:blipFill>
          <a:blip r:embed="rId1"/>
          <a:stretch/>
        </p:blipFill>
        <p:spPr>
          <a:xfrm>
            <a:off x="6227640" y="3306600"/>
            <a:ext cx="261648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6"/>
          <p:cNvSpPr/>
          <p:nvPr/>
        </p:nvSpPr>
        <p:spPr>
          <a:xfrm>
            <a:off x="0" y="260280"/>
            <a:ext cx="8886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在水鸭子的实验中，你看到了怎样的逗笑的情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0" y="17002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有着一大把胡子的大男人，屈着膝，弯着腰，低着头在草地上爬着，一边不时回头偷看，一边大声地学着鸭子的叫声，而那些小鸭子却完全不露痕迹地藏在深深的草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0" y="1628640"/>
            <a:ext cx="874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出了不明原委的人容易把我的行为视为怪诞或发疯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运用夸张的手法，写出作者的行为总是令人发笑，增强了文章幽默风趣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反复做实验，可以看出“我”对科学工作的专注、忘我的精神和极高的专业素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0" y="0"/>
            <a:ext cx="914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作者为什么要反复地写这个逗笑的情景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3"/>
          <p:cNvSpPr/>
          <p:nvPr/>
        </p:nvSpPr>
        <p:spPr>
          <a:xfrm>
            <a:off x="0" y="0"/>
            <a:ext cx="8567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课文写了我和黄冠大鹦鹉“可可”有关的三件趣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324000" y="1484280"/>
            <a:ext cx="68468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可可到处追寻“我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可可的恶作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可可把线缠到树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http://pic16.nipic.com/20110825/7675514_061434363000_2.jpg"/>
          <p:cNvPicPr/>
          <p:nvPr/>
        </p:nvPicPr>
        <p:blipFill>
          <a:blip r:embed="rId1"/>
          <a:srcRect l="0" t="13316" r="0" b="6731"/>
          <a:stretch/>
        </p:blipFill>
        <p:spPr>
          <a:xfrm>
            <a:off x="4562640" y="4422600"/>
            <a:ext cx="45813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6"/>
          <p:cNvSpPr/>
          <p:nvPr/>
        </p:nvSpPr>
        <p:spPr>
          <a:xfrm>
            <a:off x="0" y="0"/>
            <a:ext cx="8567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４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”和黄冠大鹦鹉可可之间的趣事多多，其中哪一件给你印象最深？这三件趣事有什么表达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0" y="198900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可可到处追寻“我” 。写出了可可因获得自由后变得活泼而神采奕奕，并且对我恋恋不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6804000" y="4603680"/>
            <a:ext cx="26114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标题 1"/>
          <p:cNvSpPr/>
          <p:nvPr/>
        </p:nvSpPr>
        <p:spPr>
          <a:xfrm>
            <a:off x="1127160" y="2376360"/>
            <a:ext cx="670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7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动物笑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5"/>
          <p:cNvSpPr/>
          <p:nvPr/>
        </p:nvSpPr>
        <p:spPr>
          <a:xfrm>
            <a:off x="0" y="0"/>
            <a:ext cx="85456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可的恶作剧，写出了可可的聪明，它知道如何来排这些扣子，更突出了可可与我们一家人的亲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可把线缠到树上，可见可可是多么的富有想象力，它与我的母亲是多么的融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589800" y="5043600"/>
            <a:ext cx="25542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0" y="0"/>
            <a:ext cx="2916360" cy="544320"/>
            <a:chOff x="0" y="0"/>
            <a:chExt cx="2916360" cy="544320"/>
          </a:xfrm>
        </p:grpSpPr>
        <p:pic>
          <p:nvPicPr>
            <p:cNvPr id="135" name="图片 1" descr=""/>
            <p:cNvPicPr/>
            <p:nvPr/>
          </p:nvPicPr>
          <p:blipFill>
            <a:blip r:embed="rId1"/>
            <a:stretch/>
          </p:blipFill>
          <p:spPr>
            <a:xfrm>
              <a:off x="100080" y="7920"/>
              <a:ext cx="2731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文本框 2"/>
            <p:cNvSpPr/>
            <p:nvPr/>
          </p:nvSpPr>
          <p:spPr>
            <a:xfrm>
              <a:off x="0" y="0"/>
              <a:ext cx="29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体会心理活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矩形 1"/>
          <p:cNvSpPr/>
          <p:nvPr/>
        </p:nvSpPr>
        <p:spPr>
          <a:xfrm>
            <a:off x="0" y="1628640"/>
            <a:ext cx="87789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“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里的一个周末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总算松了一口气”体会“我”心理活动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4253040" y="3244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3"/>
          <p:cNvGrpSpPr/>
          <p:nvPr/>
        </p:nvGrpSpPr>
        <p:grpSpPr>
          <a:xfrm>
            <a:off x="0" y="0"/>
            <a:ext cx="2062080" cy="544680"/>
            <a:chOff x="0" y="0"/>
            <a:chExt cx="2062080" cy="544680"/>
          </a:xfrm>
        </p:grpSpPr>
        <p:pic>
          <p:nvPicPr>
            <p:cNvPr id="140" name="图片 1" descr=""/>
            <p:cNvPicPr/>
            <p:nvPr/>
          </p:nvPicPr>
          <p:blipFill>
            <a:blip r:embed="rId1"/>
            <a:stretch/>
          </p:blipFill>
          <p:spPr>
            <a:xfrm>
              <a:off x="73080" y="792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2"/>
            <p:cNvSpPr/>
            <p:nvPr/>
          </p:nvSpPr>
          <p:spPr>
            <a:xfrm>
              <a:off x="0" y="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深入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1"/>
          <p:cNvSpPr/>
          <p:nvPr/>
        </p:nvSpPr>
        <p:spPr>
          <a:xfrm>
            <a:off x="0" y="404640"/>
            <a:ext cx="877896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老天！这不是可可吗？它的翅膀稳定地动着，不是很清楚地表示它正要去做长途飞行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个感叹号，两个问号，体现了“我”看到可可正要去做长途飞行寻找“我”感到惊讶；看到可可又要冒着迷路的危险去寻找“我”，知道可可是如此依恋“我”，感到惊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3"/>
          <p:cNvGrpSpPr/>
          <p:nvPr/>
        </p:nvGrpSpPr>
        <p:grpSpPr>
          <a:xfrm>
            <a:off x="0" y="0"/>
            <a:ext cx="2062080" cy="544680"/>
            <a:chOff x="0" y="0"/>
            <a:chExt cx="2062080" cy="544680"/>
          </a:xfrm>
        </p:grpSpPr>
        <p:pic>
          <p:nvPicPr>
            <p:cNvPr id="144" name="图片 1" descr=""/>
            <p:cNvPicPr/>
            <p:nvPr/>
          </p:nvPicPr>
          <p:blipFill>
            <a:blip r:embed="rId1"/>
            <a:stretch/>
          </p:blipFill>
          <p:spPr>
            <a:xfrm>
              <a:off x="73080" y="792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2"/>
            <p:cNvSpPr/>
            <p:nvPr/>
          </p:nvSpPr>
          <p:spPr>
            <a:xfrm>
              <a:off x="0" y="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深入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矩形 1"/>
          <p:cNvSpPr/>
          <p:nvPr/>
        </p:nvSpPr>
        <p:spPr>
          <a:xfrm>
            <a:off x="0" y="1773360"/>
            <a:ext cx="961236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怎么办？该不该喊它一声呢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”陷入了矛盾之中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叫它吧！不然，可可又要迷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3"/>
          <p:cNvGrpSpPr/>
          <p:nvPr/>
        </p:nvGrpSpPr>
        <p:grpSpPr>
          <a:xfrm>
            <a:off x="0" y="0"/>
            <a:ext cx="2062080" cy="544680"/>
            <a:chOff x="0" y="0"/>
            <a:chExt cx="2062080" cy="544680"/>
          </a:xfrm>
        </p:grpSpPr>
        <p:pic>
          <p:nvPicPr>
            <p:cNvPr id="148" name="图片 1" descr=""/>
            <p:cNvPicPr/>
            <p:nvPr/>
          </p:nvPicPr>
          <p:blipFill>
            <a:blip r:embed="rId1"/>
            <a:stretch/>
          </p:blipFill>
          <p:spPr>
            <a:xfrm>
              <a:off x="73080" y="792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2"/>
            <p:cNvSpPr/>
            <p:nvPr/>
          </p:nvSpPr>
          <p:spPr>
            <a:xfrm>
              <a:off x="0" y="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深入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1"/>
          <p:cNvSpPr/>
          <p:nvPr/>
        </p:nvSpPr>
        <p:spPr>
          <a:xfrm>
            <a:off x="0" y="404640"/>
            <a:ext cx="877896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什么艾顿堡的居民都把“我”当疯子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“我”太专注于动物行为学研究工作，完全忘记了自己身处的环境，和动物俨然融为一体。而“我”在研究动物的过程中为了更好地得出实验结果，经常会做出一些在旁人看来十分怪诞的行为。因此艾顿堡的居民都把“我”当疯子，这也从侧面表现出“我”对科学研究的严谨、专注、忘我的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"/>
          <p:cNvSpPr/>
          <p:nvPr/>
        </p:nvSpPr>
        <p:spPr>
          <a:xfrm>
            <a:off x="0" y="61920"/>
            <a:ext cx="91440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仔细阅读课文，谈谈你对作者所表达的思想感情的理解，作者的做法在今天来看有何现实意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用幽默风趣的文字，讲述了有关动物的趣事、笑话，表达了作者对动物的热爱。在环境破坏，物种面临灭绝的今天，劳伦兹用行动告诉我们该怎样善待生命，做到人与自然和谐相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2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习了劳伦兹和动物间的趣事，你对他有怎样的认识和评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rcRect l="0" t="0" r="0" b="50002"/>
          <a:stretch/>
        </p:blipFill>
        <p:spPr>
          <a:xfrm>
            <a:off x="0" y="2276640"/>
            <a:ext cx="939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rcRect l="0" t="50002" r="0" b="0"/>
          <a:stretch/>
        </p:blipFill>
        <p:spPr>
          <a:xfrm>
            <a:off x="282600" y="836640"/>
            <a:ext cx="8861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3"/>
          <p:cNvGrpSpPr/>
          <p:nvPr/>
        </p:nvGrpSpPr>
        <p:grpSpPr>
          <a:xfrm>
            <a:off x="184320" y="1120680"/>
            <a:ext cx="2062080" cy="544680"/>
            <a:chOff x="184320" y="1120680"/>
            <a:chExt cx="2062080" cy="544680"/>
          </a:xfrm>
        </p:grpSpPr>
        <p:pic>
          <p:nvPicPr>
            <p:cNvPr id="156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112860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2"/>
            <p:cNvSpPr/>
            <p:nvPr/>
          </p:nvSpPr>
          <p:spPr>
            <a:xfrm>
              <a:off x="184320" y="112068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结构梳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左大括号 18"/>
          <p:cNvSpPr/>
          <p:nvPr/>
        </p:nvSpPr>
        <p:spPr>
          <a:xfrm>
            <a:off x="1521000" y="2309760"/>
            <a:ext cx="477720" cy="2006640"/>
          </a:xfrm>
          <a:custGeom>
            <a:avLst/>
            <a:gdLst>
              <a:gd name="textAreaLeft" fmla="*/ 305280 w 477720"/>
              <a:gd name="textAreaRight" fmla="*/ 478080 w 477720"/>
              <a:gd name="textAreaTop" fmla="*/ 12240 h 2006640"/>
              <a:gd name="textAreaBottom" fmla="*/ 1994400 h 20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5400" y="10800"/>
                  <a:pt x="0" y="10800"/>
                </a:cubicBezTo>
                <a:cubicBezTo>
                  <a:pt x="54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85680" y="30700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物笑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右大括号 3"/>
          <p:cNvSpPr/>
          <p:nvPr/>
        </p:nvSpPr>
        <p:spPr>
          <a:xfrm>
            <a:off x="6969240" y="2301840"/>
            <a:ext cx="568080" cy="2408400"/>
          </a:xfrm>
          <a:custGeom>
            <a:avLst/>
            <a:gdLst>
              <a:gd name="textAreaLeft" fmla="*/ 0 w 568080"/>
              <a:gd name="textAreaRight" fmla="*/ 205200 w 568080"/>
              <a:gd name="textAreaTop" fmla="*/ 14760 h 2408400"/>
              <a:gd name="textAreaBottom" fmla="*/ 2393640 h 240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5"/>
                </a:cubicBezTo>
                <a:lnTo>
                  <a:pt x="10800" y="10375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3"/>
                  <a:pt x="10800" y="11225"/>
                </a:cubicBezTo>
                <a:lnTo>
                  <a:pt x="10800" y="21175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7459560" y="2851200"/>
            <a:ext cx="16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待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谐相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990800" y="3651120"/>
            <a:ext cx="15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可可的故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998720" y="2109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水鸭子的实验  累人的差事  暗自得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左大括号 34"/>
          <p:cNvSpPr/>
          <p:nvPr/>
        </p:nvSpPr>
        <p:spPr>
          <a:xfrm>
            <a:off x="3460680" y="3357720"/>
            <a:ext cx="238320" cy="1063440"/>
          </a:xfrm>
          <a:custGeom>
            <a:avLst/>
            <a:gdLst>
              <a:gd name="textAreaLeft" fmla="*/ 152280 w 238320"/>
              <a:gd name="textAreaRight" fmla="*/ 238680 w 238320"/>
              <a:gd name="textAreaTop" fmla="*/ 6120 h 1063440"/>
              <a:gd name="textAreaBottom" fmla="*/ 1057320 h 106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2"/>
                  <a:pt x="10800" y="403"/>
                </a:cubicBezTo>
                <a:lnTo>
                  <a:pt x="10800" y="10397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2"/>
                  <a:pt x="10800" y="11203"/>
                </a:cubicBezTo>
                <a:lnTo>
                  <a:pt x="10800" y="21197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654360" y="3125880"/>
            <a:ext cx="209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到处寻找“我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恶作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玩毛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右大括号 37"/>
          <p:cNvSpPr/>
          <p:nvPr/>
        </p:nvSpPr>
        <p:spPr>
          <a:xfrm>
            <a:off x="5603760" y="3333600"/>
            <a:ext cx="284400" cy="1098720"/>
          </a:xfrm>
          <a:custGeom>
            <a:avLst/>
            <a:gdLst>
              <a:gd name="textAreaLeft" fmla="*/ 0 w 284400"/>
              <a:gd name="textAreaRight" fmla="*/ 102600 w 284400"/>
              <a:gd name="textAreaTop" fmla="*/ 7200 h 1098720"/>
              <a:gd name="textAreaBottom" fmla="*/ 1091520 h 10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3"/>
                  <a:pt x="10800" y="466"/>
                </a:cubicBezTo>
                <a:lnTo>
                  <a:pt x="10800" y="10334"/>
                </a:lnTo>
                <a:cubicBezTo>
                  <a:pt x="10800" y="10567"/>
                  <a:pt x="16200" y="10800"/>
                  <a:pt x="21600" y="10800"/>
                </a:cubicBezTo>
                <a:cubicBezTo>
                  <a:pt x="16200" y="10800"/>
                  <a:pt x="10800" y="11033"/>
                  <a:pt x="10800" y="11266"/>
                </a:cubicBezTo>
                <a:lnTo>
                  <a:pt x="10800" y="21134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889600" y="3668760"/>
            <a:ext cx="13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亲密无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3"/>
          <p:cNvGrpSpPr/>
          <p:nvPr/>
        </p:nvGrpSpPr>
        <p:grpSpPr>
          <a:xfrm>
            <a:off x="0" y="404640"/>
            <a:ext cx="2062080" cy="544680"/>
            <a:chOff x="0" y="404640"/>
            <a:chExt cx="2062080" cy="544680"/>
          </a:xfrm>
        </p:grpSpPr>
        <p:pic>
          <p:nvPicPr>
            <p:cNvPr id="169" name="图片 1" descr=""/>
            <p:cNvPicPr/>
            <p:nvPr/>
          </p:nvPicPr>
          <p:blipFill>
            <a:blip r:embed="rId1"/>
            <a:stretch/>
          </p:blipFill>
          <p:spPr>
            <a:xfrm>
              <a:off x="73080" y="41256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2"/>
            <p:cNvSpPr/>
            <p:nvPr/>
          </p:nvSpPr>
          <p:spPr>
            <a:xfrm>
              <a:off x="0" y="40464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艺术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1"/>
          <p:cNvSpPr/>
          <p:nvPr/>
        </p:nvSpPr>
        <p:spPr>
          <a:xfrm>
            <a:off x="0" y="1197000"/>
            <a:ext cx="862812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视角独特，情趣十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以作者自己的观察来描写几种动物，并由此获得自我“可笑”的感受（而不是动物蠢笨可笑），这是十分独特的写作视角，充满对动物的喜爱和爱护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2" descr=""/>
          <p:cNvPicPr/>
          <p:nvPr/>
        </p:nvPicPr>
        <p:blipFill>
          <a:blip r:embed="rId2"/>
          <a:stretch/>
        </p:blipFill>
        <p:spPr>
          <a:xfrm>
            <a:off x="5896080" y="5030640"/>
            <a:ext cx="32479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3"/>
          <p:cNvGrpSpPr/>
          <p:nvPr/>
        </p:nvGrpSpPr>
        <p:grpSpPr>
          <a:xfrm>
            <a:off x="184320" y="1120680"/>
            <a:ext cx="2062080" cy="544680"/>
            <a:chOff x="184320" y="1120680"/>
            <a:chExt cx="2062080" cy="544680"/>
          </a:xfrm>
        </p:grpSpPr>
        <p:pic>
          <p:nvPicPr>
            <p:cNvPr id="54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112860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文本框 2"/>
            <p:cNvSpPr/>
            <p:nvPr/>
          </p:nvSpPr>
          <p:spPr>
            <a:xfrm>
              <a:off x="184320" y="11206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1"/>
          <p:cNvSpPr/>
          <p:nvPr/>
        </p:nvSpPr>
        <p:spPr>
          <a:xfrm>
            <a:off x="225360" y="1987560"/>
            <a:ext cx="86058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体感知课文内容，理解标题“笑谈”的含义。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点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地朗读课文，体会作者对动物的感情，并学习本文诙谐风趣的语言。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难点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本文作者对科学工作专注、忘我的精神和极高的专业素养，倡导建立人和动物之间的亲密关系。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点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0" y="476280"/>
            <a:ext cx="9144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略得当，描写手法多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通过回顾略写小凫的代孵经过和结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写自己动手做有关水鸭子的实验和自己养黄冠大鹦鹉“可可”的过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略处理得当，突出了重点对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" descr=""/>
          <p:cNvPicPr/>
          <p:nvPr/>
        </p:nvPicPr>
        <p:blipFill>
          <a:blip r:embed="rId1"/>
          <a:stretch/>
        </p:blipFill>
        <p:spPr>
          <a:xfrm>
            <a:off x="5967360" y="4317840"/>
            <a:ext cx="31766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0" y="476280"/>
            <a:ext cx="914400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言诙谐幽默，带有调侃的味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明原委的人很容易把他的行为视为掼怪诞或发疯，产生喜剧效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爱的动物们有时像捣乱的孩子一样搞恶作剧，让人“生气”之余忍俊不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2" descr=""/>
          <p:cNvPicPr/>
          <p:nvPr/>
        </p:nvPicPr>
        <p:blipFill>
          <a:blip r:embed="rId1"/>
          <a:stretch/>
        </p:blipFill>
        <p:spPr>
          <a:xfrm>
            <a:off x="5967360" y="4317840"/>
            <a:ext cx="31766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3"/>
          <p:cNvSpPr/>
          <p:nvPr/>
        </p:nvSpPr>
        <p:spPr>
          <a:xfrm>
            <a:off x="0" y="0"/>
            <a:ext cx="9144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描写研究水鸭子时，“好像只要我不出声，它们就以为我死了，或者以为我不再爱它们了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极度的夸张和反复手法，写出了作者的“异常”行为总是令人发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写可可冒着迷路的危险去寻找“我”的过程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”的心理活动十分细腻，特别突出了自己的惊讶和惊喜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1" descr=""/>
          <p:cNvPicPr/>
          <p:nvPr/>
        </p:nvPicPr>
        <p:blipFill>
          <a:blip r:embed="rId1"/>
          <a:srcRect l="42119" t="0" r="-233" b="4775"/>
          <a:stretch/>
        </p:blipFill>
        <p:spPr>
          <a:xfrm>
            <a:off x="6084720" y="4718160"/>
            <a:ext cx="277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0" y="1125360"/>
            <a:ext cx="91440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然，这一次这些小鸭子一点也不怕我，它们信任地望着我，挤成一堆，听任我用叫声把它们带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拟人的修辞，赋予小鸭子以人的灵性，写出了它们可爱的情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" descr=""/>
          <p:cNvPicPr/>
          <p:nvPr/>
        </p:nvPicPr>
        <p:blipFill>
          <a:blip r:embed="rId1"/>
          <a:srcRect l="42119" t="0" r="-233" b="4775"/>
          <a:stretch/>
        </p:blipFill>
        <p:spPr>
          <a:xfrm>
            <a:off x="6084720" y="4718160"/>
            <a:ext cx="277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3"/>
          <p:cNvGrpSpPr/>
          <p:nvPr/>
        </p:nvGrpSpPr>
        <p:grpSpPr>
          <a:xfrm>
            <a:off x="0" y="333360"/>
            <a:ext cx="2062080" cy="544680"/>
            <a:chOff x="0" y="333360"/>
            <a:chExt cx="2062080" cy="544680"/>
          </a:xfrm>
        </p:grpSpPr>
        <p:pic>
          <p:nvPicPr>
            <p:cNvPr id="182" name="图片 1" descr=""/>
            <p:cNvPicPr/>
            <p:nvPr/>
          </p:nvPicPr>
          <p:blipFill>
            <a:blip r:embed="rId1"/>
            <a:stretch/>
          </p:blipFill>
          <p:spPr>
            <a:xfrm>
              <a:off x="73080" y="34128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文本框 2"/>
            <p:cNvSpPr/>
            <p:nvPr/>
          </p:nvSpPr>
          <p:spPr>
            <a:xfrm>
              <a:off x="0" y="33336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拓展迁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3"/>
          <p:cNvSpPr/>
          <p:nvPr/>
        </p:nvSpPr>
        <p:spPr>
          <a:xfrm>
            <a:off x="0" y="1268280"/>
            <a:ext cx="914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物的互帮互助在同类中表现十分明显。大雁在飞行中拍动翅膀，为跟随其后的同伴创造有利的上升气流，这种团队合作的成果，使集体的飞行效率大大增加了。不管群体遭遇的情况是好是坏，同伴们总是会相互帮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3220200" y="549360"/>
            <a:ext cx="231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动物的互帮互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6" descr=""/>
          <p:cNvPicPr/>
          <p:nvPr/>
        </p:nvPicPr>
        <p:blipFill>
          <a:blip r:embed="rId2"/>
          <a:srcRect l="12632" t="58693" r="13052" b="5329"/>
          <a:stretch/>
        </p:blipFill>
        <p:spPr>
          <a:xfrm>
            <a:off x="3808440" y="5362560"/>
            <a:ext cx="53355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2" descr=""/>
          <p:cNvPicPr/>
          <p:nvPr/>
        </p:nvPicPr>
        <p:blipFill>
          <a:blip r:embed="rId1"/>
          <a:stretch/>
        </p:blipFill>
        <p:spPr>
          <a:xfrm>
            <a:off x="0" y="260280"/>
            <a:ext cx="4962600" cy="1733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0" y="1106640"/>
            <a:ext cx="914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一只大雁生病或被猎人击伤，雁群中就会有两只大雁靠近这只遭遇困难的同伴，协助它降落在地面上，然后一直等到这只大雁能够重回群体或直至不幸死亡后，它们才会离开。其他动物也有这种行为，如瞎眼老鼠咬着明眼老鼠的尾巴行走；鸭子相互用喙梳理羽毛；受伤的小鹿被驮回同类的舍内养护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"/>
          <p:cNvGrpSpPr/>
          <p:nvPr/>
        </p:nvGrpSpPr>
        <p:grpSpPr>
          <a:xfrm>
            <a:off x="0" y="0"/>
            <a:ext cx="2062080" cy="544680"/>
            <a:chOff x="0" y="0"/>
            <a:chExt cx="2062080" cy="544680"/>
          </a:xfrm>
        </p:grpSpPr>
        <p:pic>
          <p:nvPicPr>
            <p:cNvPr id="58" name="图片 1" descr=""/>
            <p:cNvPicPr/>
            <p:nvPr/>
          </p:nvPicPr>
          <p:blipFill>
            <a:blip r:embed="rId1"/>
            <a:stretch/>
          </p:blipFill>
          <p:spPr>
            <a:xfrm>
              <a:off x="73080" y="792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文本框 2"/>
            <p:cNvSpPr/>
            <p:nvPr/>
          </p:nvSpPr>
          <p:spPr>
            <a:xfrm>
              <a:off x="0" y="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作者名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"/>
          <p:cNvSpPr/>
          <p:nvPr/>
        </p:nvSpPr>
        <p:spPr>
          <a:xfrm>
            <a:off x="0" y="765000"/>
            <a:ext cx="8852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康拉德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劳伦兹（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03—1989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地利动物行为学家、科普作家，是世界动物行为学研究的开山鼻祖，曾获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诺贝尔生理医学奖。代表作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罗门王的指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攻击的秘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雁语者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狗的家世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0" y="3016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罗门王的指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》是他的第一部通俗科学著作，脍炙人口，风行全球已经近半个世纪。这本书最为人称道的是他用生花妙笔向一般大众讲述动物故事。作者之所以取名为《所罗门王的指环》，是根据史料记载，“所罗门王能够和鸟兽虫鱼交谈。”“所罗门王的指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个魔戒，所罗门王戴着它，就能够听懂鸟兽鱼虫的语言，即便与动物不同种，也能和他们建立互相理解而亲密的关系。”作者认为如果有对自然生灵的敬意和同情，便能和周围的动物们像一家人一样生活在一起，真正融入它们的种群，甚至不惜为野生动物朋友作出巨大的牺牲，完全无需借助所罗门王的魔戒，便能与动物心灵相通，倾听它们诉说“至美至真的故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动物笑谈》就是《所罗门王的指环》中若干生动动物故事的一篇，我们今天学习它，能感受到怎样“至美至真的故事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组合 3"/>
          <p:cNvGrpSpPr/>
          <p:nvPr/>
        </p:nvGrpSpPr>
        <p:grpSpPr>
          <a:xfrm>
            <a:off x="0" y="0"/>
            <a:ext cx="2062080" cy="544680"/>
            <a:chOff x="0" y="0"/>
            <a:chExt cx="2062080" cy="544680"/>
          </a:xfrm>
        </p:grpSpPr>
        <p:pic>
          <p:nvPicPr>
            <p:cNvPr id="63" name="图片 1" descr=""/>
            <p:cNvPicPr/>
            <p:nvPr/>
          </p:nvPicPr>
          <p:blipFill>
            <a:blip r:embed="rId1"/>
            <a:stretch/>
          </p:blipFill>
          <p:spPr>
            <a:xfrm>
              <a:off x="73080" y="792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文本框 2"/>
            <p:cNvSpPr/>
            <p:nvPr/>
          </p:nvSpPr>
          <p:spPr>
            <a:xfrm>
              <a:off x="0" y="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文体知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4"/>
          <p:cNvSpPr/>
          <p:nvPr/>
        </p:nvSpPr>
        <p:spPr>
          <a:xfrm>
            <a:off x="0" y="549360"/>
            <a:ext cx="8712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普作品是一种以向大众普及科学知识为主要目的的作品。“科普”一词意为科学普及。科普作品传统上以文字或图画作为基本载体。不过随着媒体技术的发展，科普作品也常常以视频媒体等其他形式出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"/>
          <p:cNvSpPr/>
          <p:nvPr/>
        </p:nvSpPr>
        <p:spPr>
          <a:xfrm>
            <a:off x="228240" y="0"/>
            <a:ext cx="19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难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0" y="692280"/>
            <a:ext cx="8736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鹦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  )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温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锢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)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)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神采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奕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奕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)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余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)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收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敛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)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咒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)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)   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蹒跚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   )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匍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1174320" y="83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yīnɡ w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138640" y="765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x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1332000" y="1628640"/>
            <a:ext cx="71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ɡ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5135760" y="155736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nü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"/>
          <p:cNvSpPr/>
          <p:nvPr/>
        </p:nvSpPr>
        <p:spPr>
          <a:xfrm>
            <a:off x="2340000" y="2492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1"/>
          <p:cNvSpPr/>
          <p:nvPr/>
        </p:nvSpPr>
        <p:spPr>
          <a:xfrm>
            <a:off x="5128200" y="24922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hu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1252440" y="3284640"/>
            <a:ext cx="10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5186880" y="335772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l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7"/>
          <p:cNvSpPr/>
          <p:nvPr/>
        </p:nvSpPr>
        <p:spPr>
          <a:xfrm>
            <a:off x="1101240" y="407664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z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8"/>
          <p:cNvSpPr/>
          <p:nvPr/>
        </p:nvSpPr>
        <p:spPr>
          <a:xfrm>
            <a:off x="4627800" y="407664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c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9"/>
          <p:cNvSpPr/>
          <p:nvPr/>
        </p:nvSpPr>
        <p:spPr>
          <a:xfrm>
            <a:off x="1146960" y="494172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pán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sh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0"/>
          <p:cNvSpPr/>
          <p:nvPr/>
        </p:nvSpPr>
        <p:spPr>
          <a:xfrm>
            <a:off x="5282640" y="49417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pú 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320760" y="1131840"/>
            <a:ext cx="18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1177920" y="1992240"/>
            <a:ext cx="311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蛋壳（     ）金蝉脱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5391000" y="1668600"/>
            <a:ext cx="3213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差事（     ）阴差阳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差不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1031760" y="3746520"/>
            <a:ext cx="27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冠军（    ）皇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5423040" y="3813120"/>
            <a:ext cx="2536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睡觉（    ）觉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368280" y="2133720"/>
            <a:ext cx="51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左大括号 7"/>
          <p:cNvSpPr/>
          <p:nvPr/>
        </p:nvSpPr>
        <p:spPr>
          <a:xfrm>
            <a:off x="982800" y="2330280"/>
            <a:ext cx="247680" cy="76680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766800"/>
              <a:gd name="textAreaBottom" fmla="*/ 760680 h 7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1"/>
                  <a:pt x="10800" y="581"/>
                </a:cubicBezTo>
                <a:lnTo>
                  <a:pt x="10800" y="10219"/>
                </a:lnTo>
                <a:cubicBezTo>
                  <a:pt x="10800" y="10510"/>
                  <a:pt x="5400" y="10800"/>
                  <a:pt x="0" y="10800"/>
                </a:cubicBezTo>
                <a:cubicBezTo>
                  <a:pt x="5400" y="10800"/>
                  <a:pt x="10800" y="11091"/>
                  <a:pt x="10800" y="11381"/>
                </a:cubicBezTo>
                <a:lnTo>
                  <a:pt x="10800" y="21019"/>
                </a:lnTo>
                <a:cubicBezTo>
                  <a:pt x="10800" y="2131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617360" y="2133720"/>
            <a:ext cx="51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1697040" y="21384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1537200" y="273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q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大括号 11"/>
          <p:cNvSpPr/>
          <p:nvPr/>
        </p:nvSpPr>
        <p:spPr>
          <a:xfrm>
            <a:off x="5237280" y="2014560"/>
            <a:ext cx="249120" cy="1360440"/>
          </a:xfrm>
          <a:custGeom>
            <a:avLst/>
            <a:gdLst>
              <a:gd name="textAreaLeft" fmla="*/ 159120 w 249120"/>
              <a:gd name="textAreaRight" fmla="*/ 249480 w 249120"/>
              <a:gd name="textAreaTop" fmla="*/ 6480 h 1360440"/>
              <a:gd name="textAreaBottom" fmla="*/ 1353960 h 13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5"/>
                  <a:pt x="10800" y="330"/>
                </a:cubicBezTo>
                <a:lnTo>
                  <a:pt x="10800" y="10470"/>
                </a:lnTo>
                <a:cubicBezTo>
                  <a:pt x="10800" y="10635"/>
                  <a:pt x="5400" y="10800"/>
                  <a:pt x="0" y="10800"/>
                </a:cubicBezTo>
                <a:cubicBezTo>
                  <a:pt x="5400" y="10800"/>
                  <a:pt x="10800" y="10965"/>
                  <a:pt x="10800" y="11130"/>
                </a:cubicBezTo>
                <a:lnTo>
                  <a:pt x="10800" y="21270"/>
                </a:lnTo>
                <a:cubicBezTo>
                  <a:pt x="10800" y="2143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5781600" y="179244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hā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5865840" y="241308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h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4617360" y="3789360"/>
            <a:ext cx="51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368280" y="3789360"/>
            <a:ext cx="51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左大括号 16"/>
          <p:cNvSpPr/>
          <p:nvPr/>
        </p:nvSpPr>
        <p:spPr>
          <a:xfrm>
            <a:off x="927000" y="4051440"/>
            <a:ext cx="250920" cy="690480"/>
          </a:xfrm>
          <a:custGeom>
            <a:avLst/>
            <a:gdLst>
              <a:gd name="textAreaLeft" fmla="*/ 160200 w 250920"/>
              <a:gd name="textAreaRight" fmla="*/ 251280 w 250920"/>
              <a:gd name="textAreaTop" fmla="*/ 6480 h 690480"/>
              <a:gd name="textAreaBottom" fmla="*/ 68400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7"/>
                  <a:pt x="10800" y="654"/>
                </a:cubicBezTo>
                <a:lnTo>
                  <a:pt x="10800" y="10146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7"/>
                  <a:pt x="10800" y="11454"/>
                </a:cubicBezTo>
                <a:lnTo>
                  <a:pt x="10800" y="20946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左大括号 18"/>
          <p:cNvSpPr/>
          <p:nvPr/>
        </p:nvSpPr>
        <p:spPr>
          <a:xfrm>
            <a:off x="5246640" y="4071960"/>
            <a:ext cx="281160" cy="622440"/>
          </a:xfrm>
          <a:custGeom>
            <a:avLst/>
            <a:gdLst>
              <a:gd name="textAreaLeft" fmla="*/ 179640 w 281160"/>
              <a:gd name="textAreaRight" fmla="*/ 281520 w 281160"/>
              <a:gd name="textAreaTop" fmla="*/ 7200 h 622440"/>
              <a:gd name="textAreaBottom" fmla="*/ 615240 h 62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7"/>
                  <a:pt x="10800" y="813"/>
                </a:cubicBezTo>
                <a:lnTo>
                  <a:pt x="10800" y="9987"/>
                </a:lnTo>
                <a:cubicBezTo>
                  <a:pt x="10800" y="10394"/>
                  <a:pt x="5400" y="10800"/>
                  <a:pt x="0" y="10800"/>
                </a:cubicBezTo>
                <a:cubicBezTo>
                  <a:pt x="5400" y="10800"/>
                  <a:pt x="10800" y="11207"/>
                  <a:pt x="10800" y="11613"/>
                </a:cubicBezTo>
                <a:lnTo>
                  <a:pt x="10800" y="20787"/>
                </a:lnTo>
                <a:cubicBezTo>
                  <a:pt x="10800" y="2119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1264320" y="38163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ɡ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1280160" y="43498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ɡu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57196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j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3"/>
          <p:cNvSpPr/>
          <p:nvPr/>
        </p:nvSpPr>
        <p:spPr>
          <a:xfrm>
            <a:off x="5801400" y="436896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j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4"/>
          <p:cNvSpPr/>
          <p:nvPr/>
        </p:nvSpPr>
        <p:spPr>
          <a:xfrm>
            <a:off x="5843520" y="305928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211680" y="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词语集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0" y="476280"/>
            <a:ext cx="889308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嗔怪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人表示不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怪诞不经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奇古怪，不合常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相径庭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彼此相差很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匍匐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腹贴地前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需索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取，求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1"/>
          <a:stretch/>
        </p:blipFill>
        <p:spPr>
          <a:xfrm>
            <a:off x="4381560" y="278136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2:42:24Z</dcterms:created>
  <dc:creator>Administrator</dc:creator>
  <dc:description/>
  <dc:language>en-US</dc:language>
  <cp:lastModifiedBy>Administrator</cp:lastModifiedBy>
  <dcterms:modified xsi:type="dcterms:W3CDTF">2018-01-09T08:32:38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